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0ED-67C0-4C8E-9E00-A22E8A54C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0D8-C39A-4844-82C6-5E49AA6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E9AD-201E-4C30-B7DF-DA37CE821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53CC-EA80-4275-A669-B6CC25D5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90D-3ED8-4F8D-8AB3-DE594CC9C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8873-87E0-46FF-AB72-BD3DA92C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B35-FF50-4DFD-935F-61384D98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8689-3172-4678-B86B-EDE5E3C5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7223-B08D-413A-B2D7-A1EFC3B6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FAF4-4FCE-44DB-BB4B-AA194554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D477-66F7-4FA8-80FD-BC41E9D7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BE7-5275-4E52-9C1A-9D6908E7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75B2-9439-4D96-9101-021A4496E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631920" y="64911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A2FS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lesson presents an introduction to and overview of the Electronic Military Personnel Office (eMILP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839080" y="6491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23960" y="1042920"/>
          <a:ext cx="7734240" cy="47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042920"/>
                    <a:ext cx="7734240" cy="47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209680" y="2286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ition to eMILP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1048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284040" y="760320"/>
          <a:ext cx="8763120" cy="54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040" y="760320"/>
                    <a:ext cx="87631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31680" y="457200"/>
            <a:ext cx="304920" cy="586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5410080"/>
            <a:ext cx="304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-19080" y="5477040"/>
            <a:ext cx="669960" cy="847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477120" y="380880"/>
            <a:ext cx="25905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6477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763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ere eMILPO Fits I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9480" y="0"/>
          <a:ext cx="7772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0"/>
                    <a:ext cx="7772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8686800" y="6491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60480" y="762120"/>
          <a:ext cx="8991360" cy="469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" y="762120"/>
                    <a:ext cx="899136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8763120" y="649116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8T19:09:02Z</dcterms:created>
  <dc:creator>AG SCHOOL</dc:creator>
  <dc:description/>
  <dc:language>en-US</dc:language>
  <cp:lastModifiedBy>Administrator</cp:lastModifiedBy>
  <dcterms:modified xsi:type="dcterms:W3CDTF">2005-07-08T17:13:56Z</dcterms:modified>
  <cp:revision>9</cp:revision>
  <dc:subject/>
  <dc:title>No Slide Title</dc:title>
</cp:coreProperties>
</file>